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BF05-47C9-41C7-8869-53F6B8F9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577B-54D1-4E4A-A2CC-7250F305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DAD4-4C06-48F8-BD03-383F94C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6214-D293-47C8-B725-D1BBCE2F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ABA0-4D75-4593-A838-554143B5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AABE-F5BA-45D8-BE31-32D5F32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AA8-C2DC-4650-AEA5-334FF90A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0C8E-28D7-4CB1-8835-72B31F94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9C8F-3DF6-42F9-8456-EF991EC8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559E-9258-4FB8-9B37-AFDF97F2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2015-50D5-4B67-A54D-DBABE76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AF8B-AB9F-46CE-BBAC-075772FA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055-930C-4891-AA50-C99D472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E0A-5601-4159-B32D-09975E20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5168-D603-46D5-9DC6-7AC79830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CDFD-2325-490D-91C0-17C01930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2D7-E7EB-4044-B717-E7632B2A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D9F4-FBAF-46C1-9B5A-1A8B8853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EEDA-0117-433C-ADDD-332E52E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E6E5-2157-4015-9B24-82D5837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4DF1-EFC4-4101-ACE9-D614135E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6720-8DB2-4945-844D-0C265A3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27A0-1053-495F-BEE1-DF1897B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940F-6048-40A2-AC93-3BA4167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2658-0001-47B2-A217-8F1CDE7E325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C674-0851-49FD-BF06-C65FD1713F0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456560"/>
            <a:ext cx="8928000" cy="3659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37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акъв, какъвто съм, със срам, без всяко извинен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 аз, грешен, в Твоя храм дошел съм, Божи Агнец скъп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2402640"/>
            <a:ext cx="92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ъвто съм, във Твойта кръ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мойто упов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вечната Твоя люб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вярвам, Божи Агнец м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2402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акъв, какъвто съм: борби отвън, отвътре страхов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Покровител ми бъ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шел съм, Божи Агнец скъп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ъвто съм: сляп, сирома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здраве и спасен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избавление от гря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шел съм, Божи Агнец м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акъвто съм, но вярвам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Твойто обещ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покорно този ч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шел съм, Божи Агнец скъп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9-03T06:38:59Z</dcterms:modified>
  <cp:revision>68</cp:revision>
  <dc:subject/>
  <dc:title>Slide 1</dc:title>
</cp:coreProperties>
</file>